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22D1-9248-4579-8533-3F2A8092DD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CC762-3EB4-4510-8ADF-F8AAE5ED1EE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A09F9-B0AC-4913-AE42-7E0D6749146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AD8E-1D13-47D3-9C96-4EED5241B82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C5AD-C364-4D83-B565-658BC63DF4E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FFC41-F2BE-4CD5-B7D5-D71D9583514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2571-22A3-4C10-9B29-1D3C0ED4D19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631E-C87E-45CC-809D-D1BF48A727F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042D-52E1-42B7-9353-5BC102030D0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F3317-31FE-4611-851F-FA074E00B82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85CCF-19E5-4432-A152-9B7058D2161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A7AC-FECA-44E7-9C89-58B22E4AC21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1209-63C1-4911-B665-43986AF982A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3194A-5732-4F36-BB6F-193C2B1666E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38A1-6B1E-494D-9579-ED65C605B32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1D07C-6AD7-4A63-8E8F-AB48EA2EE03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1F897-91B0-4341-B286-84CD2409E10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8080D-C364-42E0-99B5-83923231773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A592-FB6E-4B29-91A4-1BA9C6941C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CC7E-8D05-4960-9EF3-71DDEC68456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5131E-805D-4715-9A3D-6CE1629C2A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BAEF-E9B5-42FA-BD97-7FB0D70E4DB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0BEC-4F19-45EA-8E97-83F10B01646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1D5AC-C909-4016-BEFD-5674EE9DBCFC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CF35-153A-47EB-A570-009F04C6730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D11D-ACFB-48B1-87C3-32ED34D3F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C61B-04ED-45B3-9E8D-B6E02CC9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7A1-845E-4418-93CC-295BBC8D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676-512E-4190-BD7B-46D663927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CED11-697D-4223-89EA-B68F4D48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BDA9-D05E-4861-B7F0-2E3B4BB5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8DEC-AFAB-48E2-9B9A-7D53BB4F1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DE7C-69AB-42CC-8C8C-D168078BF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1207-7F0B-4932-8B4F-982665F1D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92F55-B14C-4A6B-949B-61D722132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3BEE6-B58A-4DEB-8229-E2DE95B6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31AA-66C5-45A7-8EEE-8D5EB916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998E5-5171-4ED6-86B3-6BBB2E4A6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0E34-454F-4F00-A134-77DD4396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462F0-3B47-4D34-AF41-8BB09E86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98936-6AA1-4536-8679-6F666EF8B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279D0-238B-436B-AEF9-ACD264269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F1ED5-7271-4D18-8148-4B2D64A1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495A5-DF50-4F82-8476-EC6E9FBEC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06F72-0083-410D-B059-A89CF442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CF0CA-1265-4CA1-818A-4CCACCC4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FD079B-1CC0-44E5-B2C4-E3DD82E69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2683-6B87-4080-B170-FB0341F9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81AB9-3956-4481-B7D8-D485D9AE0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633B5-8AE8-4208-B1B9-14C714809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2D3015-44BC-459C-9861-B36625C0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F0A9E-761C-4F55-8814-A907E282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528F3A-F7CE-4C3E-A408-9B180E93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F193-0FEA-4970-8BD7-8DF119B4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5F2EA-1785-47E8-92CF-891ACE64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84421-1C3E-426E-BD0D-C77EDE14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3E457-29EB-4BEB-BC63-2F43AFA5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C32AA-821F-4A98-B5DF-EA6BDCF0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4F3A-045E-448C-BE45-A2AC1D98B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467B26-DF39-4432-8FED-DCC2195B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150A6-83F9-4DC4-BD4A-CA59B684D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18B75-5295-4772-91D3-ACD0EE8C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8EFCC-6F0F-4EED-AAC5-532077F5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EBD58-CDE7-48A2-B054-2A7FF61A6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87C6A-5D41-43F0-9F8C-B3F81A67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71BED-510B-4F4B-99FD-A2CC03E39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A9EE2-FB5A-4903-8C18-D2508C677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56DAA-41FD-4C5F-BFF9-5284EFD95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684BD-D9EA-41C6-A280-9BCCE5CBE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9A0D-B3E7-4E27-8891-B0F83A8B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EFED59-E3A8-47C1-B6CE-343410B8B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35FD4-CEC6-4443-AC2B-8414079B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8827E3-ECAF-4C08-9CAD-F5B781C66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1F370-D55F-4FB7-9AB9-6557F29E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ABAA3-E6F5-4991-929E-5429B1852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BAAF0-08E1-4CE5-A621-AA8757E9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F6CF2-4C96-444D-A4DA-13AE0D812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522DB-5C39-46F8-A0EA-11D8AAA2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D11AC-3A5A-48A6-BB86-FAA6A4C6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AE3A9D-4046-4B70-8727-3A58D8BF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D536-09DD-43E1-9940-D219C5E6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8ACD1-8098-4349-BCBD-25F63359D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19BB7-B706-4623-B129-993D5BB8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F6AC2-5A33-44AB-AA0C-9A4DB8F0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A167A-1873-4A45-A957-ED48A268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73724-5000-4FC3-A18B-7E5C8258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D043E2-E1DF-4B8C-A44F-4ADD394F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964D50-B862-4B05-AC1C-8E93B65D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0399D0-CC1E-402C-A9EC-42A4F736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3662B-D7BB-4998-BDFE-59540B28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B89B8-E8B1-46BF-87AF-56286A6C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2CF1-727B-48AD-9A5D-385577ED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E6356-0E6C-452E-931C-D2B5B56B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6F40B-1E0B-4E28-885E-1D77A44F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6D63E8-4BB1-4254-BDDA-50292B8F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27A8D0-E4E2-4197-A77F-31609BBAD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E3E7D-8848-4871-9726-101E4CD70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30398-E8F2-41CA-9E7A-6755E5938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9EF8D-02E0-4654-AC05-49998F10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965FC-F4A6-4EED-9C11-F7ED9171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BCD5E-E284-4D3C-B39F-5DBA9B2AF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551B2-F1B4-47FD-AE02-EB14E652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61F-E7E9-4B29-B38E-DE4A7980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0BD41-A0F3-460B-AE41-C597E874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29FD02-C73F-48BF-AB75-413EC50E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B79B1-D9AF-4698-9638-93FA894A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73E9D-F684-455C-9905-839B7B2ED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09AC2-6D9B-421E-BD59-65EE6188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C9CC-F35C-48E9-80C7-642E4107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DD73B-46EF-45ED-9D04-A72BF06FA76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23A3B-7B00-4415-8A34-EB56B764B21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79E9B-8EE0-4381-A712-E9AFBDB1A3D8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6EEA-0A3A-42CD-B785-E9E5902FB4E1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6BEB-8097-48DB-85F8-9EDFA01C5DC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03F2-F2D4-4C6B-B0B8-B5BBEA185726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BE1C-E324-4F0A-AA40-4A1B6C7F7F6A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Title 1" descr=""/>
          <p:cNvPicPr/>
          <p:nvPr/>
        </p:nvPicPr>
        <p:blipFill>
          <a:blip r:embed="rId1"/>
          <a:stretch/>
        </p:blipFill>
        <p:spPr>
          <a:xfrm>
            <a:off x="536400" y="768240"/>
            <a:ext cx="832644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049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129528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Maria eats a hamburge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Maria come </a:t>
            </a:r>
            <a:r>
              <a:rPr b="1" lang="en-US" sz="2600" spc="-1" strike="noStrike">
                <a:solidFill>
                  <a:srgbClr val="ff2bd8"/>
                </a:solidFill>
                <a:latin typeface="Century Gothic"/>
              </a:rPr>
              <a:t>una hamburguesa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arlos wants pizz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Carlos quiere </a:t>
            </a:r>
            <a:r>
              <a:rPr b="1" lang="en-US" sz="2600" spc="-1" strike="noStrike">
                <a:solidFill>
                  <a:srgbClr val="ff2bd8"/>
                </a:solidFill>
                <a:latin typeface="Century Gothic"/>
              </a:rPr>
              <a:t>pizza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armelita kissed Carlo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Carmelita besa a </a:t>
            </a:r>
            <a:r>
              <a:rPr b="1" lang="en-US" sz="2600" spc="-1" strike="noStrike">
                <a:solidFill>
                  <a:srgbClr val="ff2bd8"/>
                </a:solidFill>
                <a:latin typeface="Century Gothic"/>
              </a:rPr>
              <a:t>Carlos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Susana is tall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Susana es alta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WordArt 9"/>
          <p:cNvSpPr txBox="1"/>
          <p:nvPr/>
        </p:nvSpPr>
        <p:spPr>
          <a:xfrm>
            <a:off x="5105520" y="4648320"/>
            <a:ext cx="1743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"a" personal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35" name="AutoShape 10"/>
          <p:cNvSpPr/>
          <p:nvPr/>
        </p:nvSpPr>
        <p:spPr>
          <a:xfrm rot="1423200">
            <a:off x="4266720" y="4495680"/>
            <a:ext cx="685800" cy="228600"/>
          </a:xfrm>
          <a:prstGeom prst="leftArrow">
            <a:avLst>
              <a:gd name="adj1" fmla="val 50000"/>
              <a:gd name="adj2" fmla="val 75000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4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3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3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pic>
        <p:nvPicPr>
          <p:cNvPr id="337" name="Content Placeholder 3" descr="conjugation chart.jpg"/>
          <p:cNvPicPr/>
          <p:nvPr/>
        </p:nvPicPr>
        <p:blipFill>
          <a:blip r:embed="rId2"/>
          <a:stretch/>
        </p:blipFill>
        <p:spPr>
          <a:xfrm>
            <a:off x="1143000" y="2025720"/>
            <a:ext cx="6858000" cy="4286160"/>
          </a:xfrm>
          <a:prstGeom prst="rect">
            <a:avLst/>
          </a:prstGeom>
          <a:ln w="0">
            <a:noFill/>
          </a:ln>
        </p:spPr>
      </p:pic>
      <p:pic>
        <p:nvPicPr>
          <p:cNvPr id="338" name="Rectangle 4" descr=""/>
          <p:cNvPicPr/>
          <p:nvPr/>
        </p:nvPicPr>
        <p:blipFill>
          <a:blip r:embed="rId3"/>
          <a:stretch/>
        </p:blipFill>
        <p:spPr>
          <a:xfrm>
            <a:off x="1657440" y="1841400"/>
            <a:ext cx="2079360" cy="1200240"/>
          </a:xfrm>
          <a:prstGeom prst="rect">
            <a:avLst/>
          </a:prstGeom>
          <a:ln w="0">
            <a:noFill/>
          </a:ln>
        </p:spPr>
      </p:pic>
      <p:pic>
        <p:nvPicPr>
          <p:cNvPr id="339" name="Rectangle 5" descr=""/>
          <p:cNvPicPr/>
          <p:nvPr/>
        </p:nvPicPr>
        <p:blipFill>
          <a:blip r:embed="rId4"/>
          <a:stretch/>
        </p:blipFill>
        <p:spPr>
          <a:xfrm>
            <a:off x="1884240" y="3213000"/>
            <a:ext cx="1640160" cy="1200240"/>
          </a:xfrm>
          <a:prstGeom prst="rect">
            <a:avLst/>
          </a:prstGeom>
          <a:ln w="0">
            <a:noFill/>
          </a:ln>
        </p:spPr>
      </p:pic>
      <p:pic>
        <p:nvPicPr>
          <p:cNvPr id="340" name="Rectangle 6" descr=""/>
          <p:cNvPicPr/>
          <p:nvPr/>
        </p:nvPicPr>
        <p:blipFill>
          <a:blip r:embed="rId5"/>
          <a:stretch/>
        </p:blipFill>
        <p:spPr>
          <a:xfrm>
            <a:off x="1500120" y="4432320"/>
            <a:ext cx="1596960" cy="1200240"/>
          </a:xfrm>
          <a:prstGeom prst="rect">
            <a:avLst/>
          </a:prstGeom>
          <a:ln w="0">
            <a:noFill/>
          </a:ln>
        </p:spPr>
      </p:pic>
      <p:pic>
        <p:nvPicPr>
          <p:cNvPr id="341" name="Rectangle 7" descr=""/>
          <p:cNvPicPr/>
          <p:nvPr/>
        </p:nvPicPr>
        <p:blipFill>
          <a:blip r:embed="rId6"/>
          <a:stretch/>
        </p:blipFill>
        <p:spPr>
          <a:xfrm>
            <a:off x="2567160" y="4432320"/>
            <a:ext cx="1614240" cy="1200240"/>
          </a:xfrm>
          <a:prstGeom prst="rect">
            <a:avLst/>
          </a:prstGeom>
          <a:ln w="0">
            <a:noFill/>
          </a:ln>
        </p:spPr>
      </p:pic>
      <p:pic>
        <p:nvPicPr>
          <p:cNvPr id="342" name="Rectangle 8" descr=""/>
          <p:cNvPicPr/>
          <p:nvPr/>
        </p:nvPicPr>
        <p:blipFill>
          <a:blip r:embed="rId7"/>
          <a:stretch/>
        </p:blipFill>
        <p:spPr>
          <a:xfrm>
            <a:off x="4548240" y="1914480"/>
            <a:ext cx="2151000" cy="1200240"/>
          </a:xfrm>
          <a:prstGeom prst="rect">
            <a:avLst/>
          </a:prstGeom>
          <a:ln w="0">
            <a:noFill/>
          </a:ln>
        </p:spPr>
      </p:pic>
      <p:pic>
        <p:nvPicPr>
          <p:cNvPr id="343" name="Rectangle 9" descr=""/>
          <p:cNvPicPr/>
          <p:nvPr/>
        </p:nvPicPr>
        <p:blipFill>
          <a:blip r:embed="rId8"/>
          <a:stretch/>
        </p:blipFill>
        <p:spPr>
          <a:xfrm>
            <a:off x="4700520" y="3286080"/>
            <a:ext cx="1736640" cy="1200240"/>
          </a:xfrm>
          <a:prstGeom prst="rect">
            <a:avLst/>
          </a:prstGeom>
          <a:ln w="0">
            <a:noFill/>
          </a:ln>
        </p:spPr>
      </p:pic>
      <p:pic>
        <p:nvPicPr>
          <p:cNvPr id="344" name="Rectangle 10" descr=""/>
          <p:cNvPicPr/>
          <p:nvPr/>
        </p:nvPicPr>
        <p:blipFill>
          <a:blip r:embed="rId9"/>
          <a:stretch/>
        </p:blipFill>
        <p:spPr>
          <a:xfrm>
            <a:off x="4091040" y="4584600"/>
            <a:ext cx="1901880" cy="1200240"/>
          </a:xfrm>
          <a:prstGeom prst="rect">
            <a:avLst/>
          </a:prstGeom>
          <a:ln w="0">
            <a:noFill/>
          </a:ln>
        </p:spPr>
      </p:pic>
      <p:pic>
        <p:nvPicPr>
          <p:cNvPr id="345" name="Rectangle 11" descr=""/>
          <p:cNvPicPr/>
          <p:nvPr/>
        </p:nvPicPr>
        <p:blipFill>
          <a:blip r:embed="rId10"/>
          <a:stretch/>
        </p:blipFill>
        <p:spPr>
          <a:xfrm>
            <a:off x="5541840" y="4584600"/>
            <a:ext cx="191952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Los pronombres </a:t>
            </a:r>
            <a:r>
              <a:rPr b="1" lang="en-US" sz="3000" spc="-1" strike="noStrike">
                <a:solidFill>
                  <a:srgbClr val="2c71ff"/>
                </a:solidFill>
                <a:latin typeface="Century Gothic"/>
              </a:rPr>
              <a:t>REEMPLEZA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el nombr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5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aria come </a:t>
            </a:r>
            <a:r>
              <a:rPr b="1" lang="en-US" sz="3600" spc="-1" strike="noStrike">
                <a:solidFill>
                  <a:srgbClr val="ff2bd8"/>
                </a:solidFill>
                <a:latin typeface="Century Gothic"/>
              </a:rPr>
              <a:t>una hamburguesa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Vamos a reemplazar el objeto direc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Mueve el pronombre enfrente del verb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Maria </a:t>
            </a:r>
            <a:r>
              <a:rPr b="1" lang="en-US" sz="4400" spc="-1" strike="noStrike">
                <a:solidFill>
                  <a:srgbClr val="ff2bd8"/>
                </a:solidFill>
                <a:latin typeface="Century Gothic"/>
              </a:rPr>
              <a:t>la</a:t>
            </a: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 come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3886200" y="2133720"/>
            <a:ext cx="4114800" cy="91440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Rectangle 6" descr=""/>
          <p:cNvPicPr/>
          <p:nvPr/>
        </p:nvPicPr>
        <p:blipFill>
          <a:blip r:embed="rId2"/>
          <a:stretch/>
        </p:blipFill>
        <p:spPr>
          <a:xfrm>
            <a:off x="5052960" y="1920960"/>
            <a:ext cx="1567080" cy="1139760"/>
          </a:xfrm>
          <a:prstGeom prst="rect">
            <a:avLst/>
          </a:prstGeom>
          <a:ln w="0">
            <a:noFill/>
          </a:ln>
        </p:spPr>
      </p:pic>
      <p:sp>
        <p:nvSpPr>
          <p:cNvPr id="352" name="Curved Up Arrow 7"/>
          <p:cNvSpPr/>
          <p:nvPr/>
        </p:nvSpPr>
        <p:spPr>
          <a:xfrm rot="10366200">
            <a:off x="2241360" y="1506600"/>
            <a:ext cx="3394080" cy="730080"/>
          </a:xfrm>
          <a:custGeom>
            <a:avLst/>
            <a:gdLst>
              <a:gd name="textAreaLeft" fmla="*/ 780120 w 3394080"/>
              <a:gd name="textAreaRight" fmla="*/ 2522880 w 3394080"/>
              <a:gd name="textAreaTop" fmla="*/ 97560 h 730080"/>
              <a:gd name="textAreaBottom" fmla="*/ 632520 h 73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29" hR="21600" stAng="10800000" swAng="-5400000"/>
                <a:lnTo>
                  <a:pt x="11091" y="21600"/>
                </a:lnTo>
                <a:arcTo wR="9929" hR="21600" stAng="5400000" swAng="-3640557"/>
                <a:lnTo>
                  <a:pt x="21285" y="5400"/>
                </a:lnTo>
                <a:lnTo>
                  <a:pt x="20438" y="0"/>
                </a:lnTo>
                <a:lnTo>
                  <a:pt x="18961" y="5400"/>
                </a:lnTo>
                <a:lnTo>
                  <a:pt x="19542" y="5400"/>
                </a:lnTo>
                <a:arcTo wR="9929" hR="21600" stAng="1759443" swAng="3547952"/>
                <a:lnTo>
                  <a:pt x="10510" y="21563"/>
                </a:lnTo>
                <a:arcTo wR="9929" hR="21600" stAng="5492605" swAng="5307395"/>
                <a:close/>
              </a:path>
              <a:path fill="darkenLess" w="21600" h="21600">
                <a:moveTo>
                  <a:pt x="0" y="0"/>
                </a:moveTo>
                <a:arcTo wR="9929" hR="21600" stAng="10800000" swAng="-5400000"/>
                <a:lnTo>
                  <a:pt x="11091" y="21600"/>
                </a:lnTo>
                <a:arcTo wR="9929" hR="21600" stAng="5400000" swAng="92605"/>
                <a:lnTo>
                  <a:pt x="10510" y="21563"/>
                </a:lnTo>
                <a:arcTo wR="9929" hR="21600" stAng="5492605" swAng="5307395"/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ria come 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una hamburgues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ria eats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entury Gothic"/>
              </a:rPr>
              <a:t>a hamburger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ria 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la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e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ria eats </a:t>
            </a:r>
            <a:r>
              <a:rPr b="0" lang="en-US" sz="2600" spc="-1" strike="noStrike" u="sng">
                <a:solidFill>
                  <a:srgbClr val="ffffff"/>
                </a:solidFill>
                <a:uFillTx/>
                <a:latin typeface="Century Gothic"/>
              </a:rPr>
              <a:t>it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9" dur="2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6" dur="2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Julia reads the book. </a:t>
            </a:r>
            <a:r>
              <a:rPr b="1" lang="en-US" sz="1800" spc="-1" strike="noStrike">
                <a:solidFill>
                  <a:srgbClr val="ffffff"/>
                </a:solidFill>
                <a:latin typeface="Century Gothic"/>
              </a:rPr>
              <a:t>(Julia reads it.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iguel loves (amar) me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he boys eat dinner everyday. </a:t>
            </a:r>
            <a:r>
              <a:rPr b="1" lang="en-US" sz="2000" spc="-1" strike="noStrike">
                <a:solidFill>
                  <a:srgbClr val="ffffff"/>
                </a:solidFill>
                <a:latin typeface="Century Gothic"/>
              </a:rPr>
              <a:t>(The boys eat it.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Si tienes un infinitivo, el pronombre de objeto directo puede venir enfrente o después del verb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6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8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I am going to watch 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TV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oy a mirar la televisio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I am going to watch 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it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Voy a mirar</a:t>
            </a:r>
            <a:r>
              <a:rPr b="0" lang="en-US" sz="2600" spc="-1" strike="noStrike">
                <a:solidFill>
                  <a:srgbClr val="ff2bd8"/>
                </a:solidFill>
                <a:latin typeface="Century Gothic"/>
              </a:rPr>
              <a:t>la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2bd8"/>
                </a:solidFill>
                <a:latin typeface="Century Gothic"/>
              </a:rPr>
              <a:t>La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voy a mirar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77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77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77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77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09" dur="2000"/>
                                        <p:tgtEl>
                                          <p:spTgt spid="3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3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9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I am reading </a:t>
            </a:r>
            <a:r>
              <a:rPr b="1" lang="en-US" sz="3200" spc="-1" strike="noStrike">
                <a:solidFill>
                  <a:srgbClr val="ff2bd8"/>
                </a:solidFill>
                <a:latin typeface="Century Gothic"/>
              </a:rPr>
              <a:t>the book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Estoy </a:t>
            </a:r>
            <a:r>
              <a:rPr b="1" lang="es-ES_tradnl" sz="3200" spc="-1" strike="noStrike">
                <a:solidFill>
                  <a:srgbClr val="ffffff"/>
                </a:solidFill>
                <a:latin typeface="Century Gothic"/>
              </a:rPr>
              <a:t>leyéndol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9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2bd8"/>
                </a:solidFill>
                <a:latin typeface="Century Gothic"/>
              </a:rPr>
              <a:t>Lo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estoy leyend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3" dur="5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249120" y="171360"/>
            <a:ext cx="8444160" cy="13035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457200" y="11426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7800" indent="-5144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I wear shoe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he girl takes the test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he waiter serves us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lvl="1" marL="952560" indent="-514440">
              <a:spcBef>
                <a:spcPts val="9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I love you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577800" indent="-51444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¿Cuáles son los objetos y los pronombres de los objeto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¿Cómo se usa en una frase completa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Los Objetos Indirectos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El </a:t>
            </a:r>
            <a:r>
              <a:rPr b="1" lang="es-ES_tradnl" sz="3600" spc="-1" strike="noStrike">
                <a:solidFill>
                  <a:srgbClr val="17bbfd"/>
                </a:solidFill>
                <a:latin typeface="Century Gothic"/>
              </a:rPr>
              <a:t>objeto indirecto</a:t>
            </a: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s-ES_tradnl" sz="3000" spc="-1" strike="noStrike" u="sng">
                <a:solidFill>
                  <a:srgbClr val="ffffff"/>
                </a:solidFill>
                <a:uFillTx/>
                <a:latin typeface="Century Gothic"/>
              </a:rPr>
              <a:t>recibe</a:t>
            </a:r>
            <a:r>
              <a:rPr b="1" lang="es-ES_tradnl" sz="3000" spc="-1" strike="noStrike">
                <a:solidFill>
                  <a:srgbClr val="ffffff"/>
                </a:solidFill>
                <a:latin typeface="Century Gothic"/>
              </a:rPr>
              <a:t>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2514600" y="3352680"/>
            <a:ext cx="4105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l objeto direc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entury Gothic"/>
              </a:rPr>
              <a:t>Maria gives Marta a hamburger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t’s label this sentenc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005f"/>
                </a:solidFill>
                <a:latin typeface="Century Gothic"/>
              </a:rPr>
              <a:t>Wha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does Maria giv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Who </a:t>
            </a:r>
            <a:r>
              <a:rPr b="1" lang="en-US" sz="3200" spc="-1" strike="noStrike">
                <a:solidFill>
                  <a:srgbClr val="17bbfd"/>
                </a:solidFill>
                <a:latin typeface="Century Gothic"/>
              </a:rPr>
              <a:t>receives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the hamburger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2" name="Rectangle 3" descr=""/>
          <p:cNvPicPr/>
          <p:nvPr/>
        </p:nvPicPr>
        <p:blipFill>
          <a:blip r:embed="rId2"/>
          <a:stretch/>
        </p:blipFill>
        <p:spPr>
          <a:xfrm>
            <a:off x="682560" y="1517760"/>
            <a:ext cx="1427400" cy="1133280"/>
          </a:xfrm>
          <a:prstGeom prst="rect">
            <a:avLst/>
          </a:prstGeom>
          <a:ln w="0">
            <a:noFill/>
          </a:ln>
        </p:spPr>
      </p:pic>
      <p:pic>
        <p:nvPicPr>
          <p:cNvPr id="373" name="Rectangle 4" descr=""/>
          <p:cNvPicPr/>
          <p:nvPr/>
        </p:nvPicPr>
        <p:blipFill>
          <a:blip r:embed="rId3"/>
          <a:stretch/>
        </p:blipFill>
        <p:spPr>
          <a:xfrm>
            <a:off x="1981080" y="1530360"/>
            <a:ext cx="1524240" cy="1152360"/>
          </a:xfrm>
          <a:prstGeom prst="rect">
            <a:avLst/>
          </a:prstGeom>
          <a:ln w="0">
            <a:noFill/>
          </a:ln>
        </p:spPr>
      </p:pic>
      <p:pic>
        <p:nvPicPr>
          <p:cNvPr id="374" name="Rectangle 5" descr=""/>
          <p:cNvPicPr/>
          <p:nvPr/>
        </p:nvPicPr>
        <p:blipFill>
          <a:blip r:embed="rId4"/>
          <a:stretch/>
        </p:blipFill>
        <p:spPr>
          <a:xfrm>
            <a:off x="5029200" y="2060640"/>
            <a:ext cx="1036800" cy="603360"/>
          </a:xfrm>
          <a:prstGeom prst="rect">
            <a:avLst/>
          </a:prstGeom>
          <a:ln w="0">
            <a:noFill/>
          </a:ln>
        </p:spPr>
      </p:pic>
      <p:pic>
        <p:nvPicPr>
          <p:cNvPr id="375" name="Rectangle 6" descr=""/>
          <p:cNvPicPr/>
          <p:nvPr/>
        </p:nvPicPr>
        <p:blipFill>
          <a:blip r:embed="rId5"/>
          <a:stretch/>
        </p:blipFill>
        <p:spPr>
          <a:xfrm>
            <a:off x="6022800" y="1676520"/>
            <a:ext cx="2316240" cy="1828800"/>
          </a:xfrm>
          <a:prstGeom prst="rect">
            <a:avLst/>
          </a:prstGeom>
          <a:ln w="0">
            <a:noFill/>
          </a:ln>
        </p:spPr>
      </p:pic>
      <p:sp>
        <p:nvSpPr>
          <p:cNvPr id="376" name="WordArt 9"/>
          <p:cNvSpPr txBox="1"/>
          <p:nvPr/>
        </p:nvSpPr>
        <p:spPr>
          <a:xfrm>
            <a:off x="3962520" y="1752480"/>
            <a:ext cx="5619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7bbfd"/>
                </a:solidFill>
                <a:latin typeface="Arial Black"/>
              </a:rPr>
              <a:t>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17bbfd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9" dur="2000"/>
                                        <p:tgtEl>
                                          <p:spTgt spid="3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8" dur="500"/>
                                        <p:tgtEl>
                                          <p:spTgt spid="3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13" dur="1000"/>
                                        <p:tgtEl>
                                          <p:spTgt spid="3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2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he waiter serves us the hotdog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Carmelita gives Carlos a kis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The students give the teacher the homework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0720" y="255600"/>
            <a:ext cx="8242560" cy="104940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295280"/>
            <a:ext cx="822960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The waiter serves us the hotdog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El mesero sirve </a:t>
            </a:r>
            <a:r>
              <a:rPr b="1" lang="en-US" sz="2600" spc="-1" strike="noStrike">
                <a:solidFill>
                  <a:srgbClr val="e40059"/>
                </a:solidFill>
                <a:latin typeface="Century Gothic"/>
              </a:rPr>
              <a:t>las salchichas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17bbfd"/>
                </a:solidFill>
                <a:latin typeface="Century Gothic"/>
              </a:rPr>
              <a:t>a nosotros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Carmelita gives Carlos a kis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Carmelita da </a:t>
            </a:r>
            <a:r>
              <a:rPr b="1" lang="en-US" sz="2600" spc="-1" strike="noStrike">
                <a:solidFill>
                  <a:srgbClr val="e40059"/>
                </a:solidFill>
                <a:latin typeface="Century Gothic"/>
              </a:rPr>
              <a:t>un beso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17bbfd"/>
                </a:solidFill>
                <a:latin typeface="Century Gothic"/>
              </a:rPr>
              <a:t>a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17bbfd"/>
                </a:solidFill>
                <a:latin typeface="Century Gothic"/>
              </a:rPr>
              <a:t>Carlos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The students give the teacher the homework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Los estudiantes dan </a:t>
            </a:r>
            <a:r>
              <a:rPr b="1" lang="en-US" sz="2600" spc="-1" strike="noStrike">
                <a:solidFill>
                  <a:srgbClr val="e40059"/>
                </a:solidFill>
                <a:latin typeface="Century Gothic"/>
              </a:rPr>
              <a:t>la tarea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600" spc="-1" strike="noStrike">
                <a:solidFill>
                  <a:srgbClr val="17bbfd"/>
                </a:solidFill>
                <a:latin typeface="Century Gothic"/>
              </a:rPr>
              <a:t>a la maestra</a:t>
            </a: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8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8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8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8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Title 1" descr="Los Pronombres de los objetos indirectos"/>
          <p:cNvPicPr/>
          <p:nvPr/>
        </p:nvPicPr>
        <p:blipFill>
          <a:blip r:embed="rId1"/>
          <a:stretch/>
        </p:blipFill>
        <p:spPr>
          <a:xfrm>
            <a:off x="384120" y="0"/>
            <a:ext cx="8242200" cy="1547640"/>
          </a:xfrm>
          <a:prstGeom prst="rect">
            <a:avLst/>
          </a:prstGeom>
          <a:ln w="0">
            <a:noFill/>
          </a:ln>
        </p:spPr>
      </p:pic>
      <p:pic>
        <p:nvPicPr>
          <p:cNvPr id="382" name="Content Placeholder 3" descr="conjugation chart.jpg"/>
          <p:cNvPicPr/>
          <p:nvPr/>
        </p:nvPicPr>
        <p:blipFill>
          <a:blip r:embed="rId2"/>
          <a:stretch/>
        </p:blipFill>
        <p:spPr>
          <a:xfrm>
            <a:off x="1143000" y="2025720"/>
            <a:ext cx="6858000" cy="4286160"/>
          </a:xfrm>
          <a:prstGeom prst="rect">
            <a:avLst/>
          </a:prstGeom>
          <a:ln w="0">
            <a:noFill/>
          </a:ln>
        </p:spPr>
      </p:pic>
      <p:pic>
        <p:nvPicPr>
          <p:cNvPr id="383" name="Rectangle 4" descr=""/>
          <p:cNvPicPr/>
          <p:nvPr/>
        </p:nvPicPr>
        <p:blipFill>
          <a:blip r:embed="rId3"/>
          <a:stretch/>
        </p:blipFill>
        <p:spPr>
          <a:xfrm>
            <a:off x="1657440" y="1841400"/>
            <a:ext cx="2079360" cy="1200240"/>
          </a:xfrm>
          <a:prstGeom prst="rect">
            <a:avLst/>
          </a:prstGeom>
          <a:ln w="0">
            <a:noFill/>
          </a:ln>
        </p:spPr>
      </p:pic>
      <p:pic>
        <p:nvPicPr>
          <p:cNvPr id="384" name="Rectangle 5" descr=""/>
          <p:cNvPicPr/>
          <p:nvPr/>
        </p:nvPicPr>
        <p:blipFill>
          <a:blip r:embed="rId4"/>
          <a:stretch/>
        </p:blipFill>
        <p:spPr>
          <a:xfrm>
            <a:off x="1884240" y="3213000"/>
            <a:ext cx="1640160" cy="1200240"/>
          </a:xfrm>
          <a:prstGeom prst="rect">
            <a:avLst/>
          </a:prstGeom>
          <a:ln w="0">
            <a:noFill/>
          </a:ln>
        </p:spPr>
      </p:pic>
      <p:pic>
        <p:nvPicPr>
          <p:cNvPr id="385" name="Rectangle 8" descr=""/>
          <p:cNvPicPr/>
          <p:nvPr/>
        </p:nvPicPr>
        <p:blipFill>
          <a:blip r:embed="rId5"/>
          <a:stretch/>
        </p:blipFill>
        <p:spPr>
          <a:xfrm>
            <a:off x="4548240" y="1914480"/>
            <a:ext cx="2151000" cy="1200240"/>
          </a:xfrm>
          <a:prstGeom prst="rect">
            <a:avLst/>
          </a:prstGeom>
          <a:ln w="0">
            <a:noFill/>
          </a:ln>
        </p:spPr>
      </p:pic>
      <p:pic>
        <p:nvPicPr>
          <p:cNvPr id="386" name="Rectangle 9" descr=""/>
          <p:cNvPicPr/>
          <p:nvPr/>
        </p:nvPicPr>
        <p:blipFill>
          <a:blip r:embed="rId6"/>
          <a:stretch/>
        </p:blipFill>
        <p:spPr>
          <a:xfrm>
            <a:off x="4700520" y="3286080"/>
            <a:ext cx="1736640" cy="1200240"/>
          </a:xfrm>
          <a:prstGeom prst="rect">
            <a:avLst/>
          </a:prstGeom>
          <a:ln w="0">
            <a:noFill/>
          </a:ln>
        </p:spPr>
      </p:pic>
      <p:sp>
        <p:nvSpPr>
          <p:cNvPr id="387" name="WordArt 13"/>
          <p:cNvSpPr txBox="1"/>
          <p:nvPr/>
        </p:nvSpPr>
        <p:spPr>
          <a:xfrm>
            <a:off x="2666880" y="5029200"/>
            <a:ext cx="914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8" name="WordArt 14"/>
          <p:cNvSpPr txBox="1"/>
          <p:nvPr/>
        </p:nvSpPr>
        <p:spPr>
          <a:xfrm>
            <a:off x="5029200" y="4724280"/>
            <a:ext cx="9144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s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89" name="Rectangle 15"/>
          <p:cNvSpPr/>
          <p:nvPr/>
        </p:nvSpPr>
        <p:spPr>
          <a:xfrm>
            <a:off x="2971800" y="914400"/>
            <a:ext cx="2286000" cy="533520"/>
          </a:xfrm>
          <a:prstGeom prst="rect">
            <a:avLst/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WordArt 16"/>
          <p:cNvSpPr txBox="1"/>
          <p:nvPr/>
        </p:nvSpPr>
        <p:spPr>
          <a:xfrm>
            <a:off x="3200400" y="914400"/>
            <a:ext cx="1676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irectos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599840"/>
            <a:ext cx="822960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aria da </a:t>
            </a:r>
            <a:r>
              <a:rPr b="1" lang="en-US" sz="3200" spc="-1" strike="noStrike">
                <a:solidFill>
                  <a:srgbClr val="ff2bd8"/>
                </a:solidFill>
                <a:latin typeface="Century Gothic"/>
              </a:rPr>
              <a:t>una hamburguesa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200" spc="-1" strike="noStrike">
                <a:solidFill>
                  <a:srgbClr val="17bbfd"/>
                </a:solidFill>
                <a:latin typeface="Century Gothic"/>
              </a:rPr>
              <a:t>a Marta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Vamos a reemplazar el objeto indirect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388c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Mueve el pronombre enfrente del verbo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aria </a:t>
            </a:r>
            <a:r>
              <a:rPr b="1" lang="en-US" sz="3600" spc="-1" strike="noStrike">
                <a:solidFill>
                  <a:srgbClr val="17bbfd"/>
                </a:solidFill>
                <a:latin typeface="Century Gothic"/>
              </a:rPr>
              <a:t>le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da una hamburguesa.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6553080" y="2133720"/>
            <a:ext cx="1676520" cy="914400"/>
          </a:xfrm>
          <a:prstGeom prst="rect">
            <a:avLst/>
          </a:pr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Curved Up Arrow 7"/>
          <p:cNvSpPr/>
          <p:nvPr/>
        </p:nvSpPr>
        <p:spPr>
          <a:xfrm rot="10275600">
            <a:off x="1907640" y="1213920"/>
            <a:ext cx="4537080" cy="730440"/>
          </a:xfrm>
          <a:custGeom>
            <a:avLst/>
            <a:gdLst>
              <a:gd name="textAreaLeft" fmla="*/ 1042560 w 4537080"/>
              <a:gd name="textAreaRight" fmla="*/ 3372480 w 453708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927" hR="21600" stAng="10800000" swAng="-5400000"/>
                <a:lnTo>
                  <a:pt x="11091" y="21600"/>
                </a:lnTo>
                <a:arcTo wR="9927" hR="21600" stAng="5400000" swAng="-3640335"/>
                <a:lnTo>
                  <a:pt x="21285" y="5400"/>
                </a:lnTo>
                <a:lnTo>
                  <a:pt x="20436" y="0"/>
                </a:lnTo>
                <a:lnTo>
                  <a:pt x="18957" y="5400"/>
                </a:lnTo>
                <a:lnTo>
                  <a:pt x="19539" y="5400"/>
                </a:lnTo>
                <a:arcTo wR="9927" hR="21600" stAng="1759665" swAng="3547570"/>
                <a:lnTo>
                  <a:pt x="10509" y="21563"/>
                </a:lnTo>
                <a:arcTo wR="9927" hR="21600" stAng="5492765" swAng="5307235"/>
                <a:close/>
              </a:path>
              <a:path fill="darkenLess" w="21600" h="21600">
                <a:moveTo>
                  <a:pt x="0" y="0"/>
                </a:moveTo>
                <a:arcTo wR="9927" hR="21600" stAng="10800000" swAng="-5400000"/>
                <a:lnTo>
                  <a:pt x="11091" y="21600"/>
                </a:lnTo>
                <a:arcTo wR="9927" hR="21600" stAng="5400000" swAng="92765"/>
                <a:lnTo>
                  <a:pt x="10509" y="21563"/>
                </a:lnTo>
                <a:arcTo wR="9927" hR="21600" stAng="5492765" swAng="5307235"/>
                <a:close/>
              </a:path>
            </a:pathLst>
          </a:custGeom>
          <a:solidFill>
            <a:srgbClr val="ff388c"/>
          </a:solidFill>
          <a:ln w="25560">
            <a:solidFill>
              <a:srgbClr val="bc266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WordArt 7"/>
          <p:cNvSpPr txBox="1"/>
          <p:nvPr/>
        </p:nvSpPr>
        <p:spPr>
          <a:xfrm>
            <a:off x="7162920" y="2286000"/>
            <a:ext cx="6094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le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5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9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0" fill="hold"/>
                                        <p:tgtEl>
                                          <p:spTgt spid="3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ria da 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una hamburguesa </a:t>
            </a:r>
            <a:r>
              <a:rPr b="1" lang="en-US" sz="3000" spc="-1" strike="noStrike">
                <a:solidFill>
                  <a:srgbClr val="17bbfd"/>
                </a:solidFill>
                <a:latin typeface="Century Gothic"/>
              </a:rPr>
              <a:t>a Mart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ria gives </a:t>
            </a:r>
            <a:r>
              <a:rPr b="0" lang="en-US" sz="2600" spc="-1" strike="noStrike">
                <a:solidFill>
                  <a:srgbClr val="17bbfd"/>
                </a:solidFill>
                <a:latin typeface="Century Gothic"/>
              </a:rPr>
              <a:t>Marta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a hamburger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aria </a:t>
            </a:r>
            <a:r>
              <a:rPr b="1" lang="en-US" sz="3000" spc="-1" strike="noStrike">
                <a:solidFill>
                  <a:srgbClr val="17bbfd"/>
                </a:solidFill>
                <a:latin typeface="Century Gothic"/>
              </a:rPr>
              <a:t>le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da</a:t>
            </a:r>
            <a:r>
              <a:rPr b="1" lang="en-US" sz="3000" spc="-1" strike="noStrike">
                <a:solidFill>
                  <a:srgbClr val="ff2bd8"/>
                </a:solidFill>
                <a:latin typeface="Century Gothic"/>
              </a:rPr>
              <a:t> una hamburguesa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ria gives </a:t>
            </a:r>
            <a:r>
              <a:rPr b="0" lang="en-US" sz="2600" spc="-1" strike="noStrike">
                <a:solidFill>
                  <a:srgbClr val="17bbfd"/>
                </a:solidFill>
                <a:latin typeface="Century Gothic"/>
              </a:rPr>
              <a:t>her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a hamburger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1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10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7" dur="8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8" dur="8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9" dur="80"/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Los Objetos Dobles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u puedes escribir una frase con los dos tipos de pronomb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WordArt 4"/>
          <p:cNvSpPr txBox="1"/>
          <p:nvPr/>
        </p:nvSpPr>
        <p:spPr>
          <a:xfrm>
            <a:off x="2819520" y="3581280"/>
            <a:ext cx="3495600" cy="648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objeto direc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03" name="WordArt 5"/>
          <p:cNvSpPr txBox="1"/>
          <p:nvPr/>
        </p:nvSpPr>
        <p:spPr>
          <a:xfrm>
            <a:off x="2590920" y="4267080"/>
            <a:ext cx="380988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objeto indirec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3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4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8200"/>
            <a:ext cx="822960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5c9c"/>
                </a:solidFill>
                <a:latin typeface="Century Gothic"/>
              </a:rPr>
              <a:t>El Vocabulario Importante de la lección</a:t>
            </a:r>
            <a:endParaRPr b="0" lang="en-US" sz="3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Sustantivo/nombre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= nou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Adjetivo = adjectiv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Verbo = verb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Pronombre = pronoun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Objeto directo = direct objec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Objeto indirecto = indirect objec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Frase/oracion = phrase/senten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Muestra = show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Reemplaza = replac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Cambia = chang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3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3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Ejemplo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Rectangle 4"/>
          <p:cNvSpPr/>
          <p:nvPr/>
        </p:nvSpPr>
        <p:spPr>
          <a:xfrm>
            <a:off x="453600" y="2133720"/>
            <a:ext cx="86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Maria da </a:t>
            </a:r>
            <a:r>
              <a:rPr b="1" lang="en-US" sz="3600" spc="-1" strike="noStrike">
                <a:solidFill>
                  <a:srgbClr val="ff2bd8"/>
                </a:solidFill>
                <a:latin typeface="Arial"/>
              </a:rPr>
              <a:t>una hamburguesa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17bbfd"/>
                </a:solidFill>
                <a:latin typeface="Arial"/>
              </a:rPr>
              <a:t>a nosotros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1143000" y="3657600"/>
            <a:ext cx="678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Vamos a reemplazar el objeto dir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Mueve el pronombre enfrente del verb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Despues, vamos a reemplazar el objeto indir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Mueve el pronombre enfrente del objeto direc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8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5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Maria </a:t>
            </a:r>
            <a:r>
              <a:rPr b="1" lang="en-US" sz="3200" spc="-1" strike="noStrike">
                <a:solidFill>
                  <a:srgbClr val="17bbfd"/>
                </a:solidFill>
                <a:latin typeface="Century Gothic"/>
              </a:rPr>
              <a:t>___________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en-US" sz="3200" spc="-1" strike="noStrike">
                <a:solidFill>
                  <a:srgbClr val="e40059"/>
                </a:solidFill>
                <a:latin typeface="Century Gothic"/>
              </a:rPr>
              <a:t>_____________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da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            </a:t>
            </a:r>
            <a:r>
              <a:rPr b="1" lang="en-US" sz="3200" spc="-1" strike="noStrike">
                <a:solidFill>
                  <a:srgbClr val="17bbfd"/>
                </a:solidFill>
                <a:latin typeface="Century Gothic"/>
              </a:rPr>
              <a:t>(I.O)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</a:rPr>
              <a:t>                   </a:t>
            </a:r>
            <a:r>
              <a:rPr b="1" lang="en-US" sz="3200" spc="-1" strike="noStrike">
                <a:solidFill>
                  <a:srgbClr val="e40059"/>
                </a:solidFill>
                <a:latin typeface="Century Gothic"/>
              </a:rPr>
              <a:t>(D.O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Maria gives it to u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WordArt 4"/>
          <p:cNvSpPr txBox="1"/>
          <p:nvPr/>
        </p:nvSpPr>
        <p:spPr>
          <a:xfrm>
            <a:off x="2362320" y="2514600"/>
            <a:ext cx="1218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s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11" name="WordArt 5"/>
          <p:cNvSpPr txBox="1"/>
          <p:nvPr/>
        </p:nvSpPr>
        <p:spPr>
          <a:xfrm>
            <a:off x="5105520" y="2514600"/>
            <a:ext cx="99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l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8" dur="1000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6" dur="8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7" dur="80"/>
                                        <p:tgtEl>
                                          <p:spTgt spid="4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Practic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waiter brings the food to Juan and me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 am going to ask you for the notes tomorrow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*NOT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Si los dos, el “objeto directo” y el “objeto indirecto” están en la tercera persona, el objeto indirecto (IO) cambia a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WordArt 4"/>
          <p:cNvSpPr txBox="1"/>
          <p:nvPr/>
        </p:nvSpPr>
        <p:spPr>
          <a:xfrm>
            <a:off x="2895480" y="3733920"/>
            <a:ext cx="23623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se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8" dur="indefinite" restart="never" nodeType="tmRoot">
          <p:childTnLst>
            <p:seq>
              <p:cTn id="1019" dur="indefinite" nodeType="mainSeq">
                <p:childTnLst>
                  <p:par>
                    <p:cTn id="1020" fill="hold">
                      <p:stCondLst>
                        <p:cond delay="0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1023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898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Practic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give Domingo the pear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ristobal gives Consuela a kiss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irls give you a hug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¿Preguntas?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Ejemplo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Maria gives </a:t>
            </a:r>
            <a:r>
              <a:rPr b="1" lang="en-US" sz="3600" spc="-1" strike="noStrike">
                <a:solidFill>
                  <a:srgbClr val="e40059"/>
                </a:solidFill>
                <a:latin typeface="Century Gothic"/>
              </a:rPr>
              <a:t>a hamburger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3600" spc="-1" strike="noStrike">
                <a:solidFill>
                  <a:srgbClr val="e40059"/>
                </a:solidFill>
                <a:latin typeface="Century Gothic"/>
              </a:rPr>
              <a:t>to Juan</a:t>
            </a: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Nomb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entury Gothic"/>
              </a:rPr>
              <a:t>Una persona, un lugar, o una cos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Adjetiv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entury Gothic"/>
              </a:rPr>
              <a:t>Describe un nomb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Verb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entury Gothic"/>
              </a:rPr>
              <a:t>Muestra acció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Century Gothic"/>
              </a:rPr>
              <a:t>Pronomb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entury Gothic"/>
              </a:rPr>
              <a:t>Reemplaza el nomb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4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400" fill="hold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3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3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Century Gothic"/>
              </a:rPr>
              <a:t>El objeto directo recibe la acción del verbo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ffff"/>
                </a:solidFill>
                <a:latin typeface="Century Gothic"/>
              </a:rPr>
              <a:t>Normalmente, Si puedes contestar la pregunta </a:t>
            </a:r>
            <a:r>
              <a:rPr b="1" lang="es-ES_tradnl" sz="2600" spc="-1" strike="noStrike">
                <a:solidFill>
                  <a:srgbClr val="ffffff"/>
                </a:solidFill>
                <a:latin typeface="Century Gothic"/>
              </a:rPr>
              <a:t>“¿quién?” </a:t>
            </a:r>
            <a:r>
              <a:rPr b="0" lang="es-ES_tradnl" sz="2600" spc="-1" strike="noStrike">
                <a:solidFill>
                  <a:srgbClr val="ffffff"/>
                </a:solidFill>
                <a:latin typeface="Century Gothic"/>
              </a:rPr>
              <a:t>o </a:t>
            </a:r>
            <a:r>
              <a:rPr b="1" lang="es-ES_tradnl" sz="2600" spc="-1" strike="noStrike">
                <a:solidFill>
                  <a:srgbClr val="ffffff"/>
                </a:solidFill>
                <a:latin typeface="Century Gothic"/>
              </a:rPr>
              <a:t>“¿qué?” </a:t>
            </a:r>
            <a:r>
              <a:rPr b="0" lang="es-ES_tradnl" sz="2600" spc="-1" strike="noStrike">
                <a:solidFill>
                  <a:srgbClr val="ffffff"/>
                </a:solidFill>
                <a:latin typeface="Century Gothic"/>
              </a:rPr>
              <a:t>después del verbo… hay un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ff"/>
                </a:solidFill>
                <a:latin typeface="Century Gothic"/>
              </a:rPr>
              <a:t>objeto directo. 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8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2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También…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Normalmente, el objeto es un sustantivo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entury Gothic"/>
              </a:rPr>
              <a:t>Maria eats a hamburger.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et’s label this sentenc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e005f"/>
                </a:solidFill>
                <a:latin typeface="Century Gothic"/>
              </a:rPr>
              <a:t>What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 does Maria eat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1" name="Rectangle 3" descr=""/>
          <p:cNvPicPr/>
          <p:nvPr/>
        </p:nvPicPr>
        <p:blipFill>
          <a:blip r:embed="rId2"/>
          <a:stretch/>
        </p:blipFill>
        <p:spPr>
          <a:xfrm>
            <a:off x="1305000" y="1500120"/>
            <a:ext cx="1425600" cy="112716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4" descr=""/>
          <p:cNvPicPr/>
          <p:nvPr/>
        </p:nvPicPr>
        <p:blipFill>
          <a:blip r:embed="rId3"/>
          <a:stretch/>
        </p:blipFill>
        <p:spPr>
          <a:xfrm>
            <a:off x="2816280" y="1474920"/>
            <a:ext cx="1523880" cy="1152360"/>
          </a:xfrm>
          <a:prstGeom prst="rect">
            <a:avLst/>
          </a:prstGeom>
          <a:ln w="0">
            <a:noFill/>
          </a:ln>
        </p:spPr>
      </p:pic>
      <p:pic>
        <p:nvPicPr>
          <p:cNvPr id="323" name="Rectangle 5" descr=""/>
          <p:cNvPicPr/>
          <p:nvPr/>
        </p:nvPicPr>
        <p:blipFill>
          <a:blip r:embed="rId4"/>
          <a:stretch/>
        </p:blipFill>
        <p:spPr>
          <a:xfrm>
            <a:off x="3906720" y="2054160"/>
            <a:ext cx="1036800" cy="609840"/>
          </a:xfrm>
          <a:prstGeom prst="rect">
            <a:avLst/>
          </a:prstGeom>
          <a:ln w="0">
            <a:noFill/>
          </a:ln>
        </p:spPr>
      </p:pic>
      <p:pic>
        <p:nvPicPr>
          <p:cNvPr id="324" name="Rectangle 6" descr=""/>
          <p:cNvPicPr/>
          <p:nvPr/>
        </p:nvPicPr>
        <p:blipFill>
          <a:blip r:embed="rId5"/>
          <a:stretch/>
        </p:blipFill>
        <p:spPr>
          <a:xfrm>
            <a:off x="5145120" y="1657440"/>
            <a:ext cx="23162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3" dur="20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450720" y="262080"/>
            <a:ext cx="8242560" cy="14079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2193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Carla wants pizza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Carmelita kisses Carlo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entury Gothic"/>
              </a:rPr>
              <a:t>Susana is tall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WordArt 9"/>
          <p:cNvSpPr txBox="1"/>
          <p:nvPr/>
        </p:nvSpPr>
        <p:spPr>
          <a:xfrm>
            <a:off x="7162920" y="3886200"/>
            <a:ext cx="11332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djetivo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28" name="AutoShape 10"/>
          <p:cNvSpPr/>
          <p:nvPr/>
        </p:nvSpPr>
        <p:spPr>
          <a:xfrm rot="20688600">
            <a:off x="6248520" y="4343040"/>
            <a:ext cx="838080" cy="228600"/>
          </a:xfrm>
          <a:prstGeom prst="leftArrow">
            <a:avLst>
              <a:gd name="adj1" fmla="val 50000"/>
              <a:gd name="adj2" fmla="val 91654"/>
            </a:avLst>
          </a:prstGeom>
          <a:solidFill>
            <a:srgbClr val="ff388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Nota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ando una persona es el objeto directo, se necesita usar…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WordArt 4"/>
          <p:cNvSpPr txBox="1"/>
          <p:nvPr/>
        </p:nvSpPr>
        <p:spPr>
          <a:xfrm>
            <a:off x="1828800" y="3429000"/>
            <a:ext cx="56386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A" personal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0T23:04:44Z</dcterms:created>
  <dc:creator>Crystal</dc:creator>
  <dc:description/>
  <dc:language>en-US</dc:language>
  <cp:lastModifiedBy>gilmore</cp:lastModifiedBy>
  <dcterms:modified xsi:type="dcterms:W3CDTF">2013-05-08T18:56:11Z</dcterms:modified>
  <cp:revision>68</cp:revision>
  <dc:subject/>
  <dc:title>Los Objetos</dc:title>
</cp:coreProperties>
</file>